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2D3-A52F-4470-9A07-2DE19125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C8D1-021C-4DE1-84FF-3ECDA012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41E-989D-449F-A192-EEE4757D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7EB5-A39B-467F-9E1C-63215C18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639-35D5-4259-A64B-3330CC2F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2C35-7C81-45E0-B28D-F50B0EC6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40FF-9CB6-4BA7-972C-0678CF1C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B050-B76E-419B-B0AF-DA326046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1D2-951A-4C32-AE5D-7EE2A6E8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D788-46B3-4B3D-8E6E-E4D1C396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E822-97BD-4D40-B362-6F484341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AE4B-A6E4-469A-9E56-512D49EC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B2D2-446D-452B-B5D3-02B169A9F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bringing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400" spc="-1" strike="noStrike">
                <a:solidFill>
                  <a:srgbClr val="000000"/>
                </a:solidFill>
                <a:latin typeface="Arial"/>
              </a:rPr>
              <a:t>spreads</a:t>
            </a: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traced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wiping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gliding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grabbed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excited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faced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talked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stacking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shopped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yelled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lifted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rested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9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300" spc="-1" strike="noStrike">
                <a:solidFill>
                  <a:srgbClr val="000000"/>
                </a:solidFill>
                <a:latin typeface="Arial"/>
              </a:rPr>
              <a:t>early</a:t>
            </a:r>
            <a:endParaRPr b="0" lang="en-US" sz="3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0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stinks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400" spc="-1" strike="noStrike">
                <a:solidFill>
                  <a:srgbClr val="000000"/>
                </a:solidFill>
                <a:latin typeface="Arial"/>
              </a:rPr>
              <a:t>friend</a:t>
            </a:r>
            <a:endParaRPr b="0" lang="en-US" sz="2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9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5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2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mask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mast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pack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slack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jogged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6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2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700" spc="-1" strike="noStrike">
                <a:solidFill>
                  <a:srgbClr val="000000"/>
                </a:solidFill>
                <a:latin typeface="Arial"/>
              </a:rPr>
              <a:t>plunked</a:t>
            </a:r>
            <a:endParaRPr b="0" lang="en-US" sz="1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Arial"/>
              </a:rPr>
              <a:t>hummed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8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kippe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300" spc="-1" strike="noStrike">
                <a:solidFill>
                  <a:srgbClr val="000000"/>
                </a:solidFill>
                <a:latin typeface="Arial"/>
              </a:rPr>
              <a:t>spotted</a:t>
            </a:r>
            <a:endParaRPr b="0" lang="en-US" sz="2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lamming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4:36:51Z</dcterms:created>
  <dc:creator> </dc:creator>
  <dc:description/>
  <dc:language>en-US</dc:language>
  <cp:lastModifiedBy>Laura McDow</cp:lastModifiedBy>
  <dcterms:modified xsi:type="dcterms:W3CDTF">2010-09-02T15:15:25Z</dcterms:modified>
  <cp:revision>22</cp:revision>
  <dc:subject/>
  <dc:title>king</dc:title>
</cp:coreProperties>
</file>